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271-7B9A-4A59-87F4-EB90AAEF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572-2DBF-47FE-AAB2-2F788D26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CA5-B15B-4A6F-AA3F-65DE8D54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059-ABFE-4DA0-95C2-40906644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376-D398-472E-9AF9-BEA0E3B6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F82-83E2-49F2-B403-93B87E7F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657-430D-4773-81B3-321DCEF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69D-1020-4E6E-9CF6-FAC76CA9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65D-6FAC-4A7E-A726-D788B4FE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4D0-CA7E-43B0-A697-8B15014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B39-98B9-48EE-B117-806291B2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3AC-2144-4AE3-B98D-750DB21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18D7-0157-4391-8120-B2555D03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3580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ALA GIMNAZIALA SPECIALA MARINA, CURTEA DE ARGES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GRAMA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şcolar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3714840" y="1928880"/>
            <a:ext cx="22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dminist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6357960" y="2571840"/>
            <a:ext cx="220968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isia de Evaluare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urare a Calita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9"/>
          <p:cNvSpPr/>
          <p:nvPr/>
        </p:nvSpPr>
        <p:spPr>
          <a:xfrm flipH="1">
            <a:off x="2785680" y="2928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0"/>
          <p:cNvSpPr/>
          <p:nvPr/>
        </p:nvSpPr>
        <p:spPr>
          <a:xfrm>
            <a:off x="5000760" y="28576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929040" y="2714760"/>
            <a:ext cx="165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2"/>
          <p:cNvSpPr/>
          <p:nvPr/>
        </p:nvSpPr>
        <p:spPr>
          <a:xfrm>
            <a:off x="600084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1214280" y="2714760"/>
            <a:ext cx="135756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fesor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5643720" y="3286080"/>
            <a:ext cx="12142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00040" y="5214960"/>
            <a:ext cx="2786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itii de conducere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i de executie =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posturi = 3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7000920" y="3857760"/>
            <a:ext cx="11286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e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2"/>
          <p:cNvSpPr/>
          <p:nvPr/>
        </p:nvSpPr>
        <p:spPr>
          <a:xfrm flipH="1">
            <a:off x="2714760" y="3214800"/>
            <a:ext cx="10713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54" descr=""/>
          <p:cNvPicPr/>
          <p:nvPr/>
        </p:nvPicPr>
        <p:blipFill>
          <a:blip r:embed="rId1"/>
          <a:stretch/>
        </p:blipFill>
        <p:spPr>
          <a:xfrm>
            <a:off x="2494080" y="1133640"/>
            <a:ext cx="4449600" cy="446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5"/>
          <p:cNvSpPr txBox="1"/>
          <p:nvPr/>
        </p:nvSpPr>
        <p:spPr>
          <a:xfrm>
            <a:off x="3929040" y="857160"/>
            <a:ext cx="17128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771640" y="620640"/>
            <a:ext cx="376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1295280" y="4010040"/>
            <a:ext cx="1357560" cy="7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51"/>
          <p:cNvCxnSpPr/>
          <p:nvPr/>
        </p:nvCxnSpPr>
        <p:spPr>
          <a:xfrm flipH="1">
            <a:off x="4857480" y="157140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>
            <a:off x="4857480" y="23572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9:24:28Z</dcterms:created>
  <dc:creator>MARINA</dc:creator>
  <dc:description/>
  <dc:language>en-US</dc:language>
  <cp:lastModifiedBy>roxanas</cp:lastModifiedBy>
  <dcterms:modified xsi:type="dcterms:W3CDTF">2014-03-28T11:13:02Z</dcterms:modified>
  <cp:revision>14</cp:revision>
  <dc:subject/>
  <dc:title>Centrul de zi Marina                                                       Organigramă                                                An şcolar 2011 - 2012</dc:title>
</cp:coreProperties>
</file>